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9.jpeg" ContentType="image/jpeg"/>
  <Override PartName="/ppt/media/image18.jpeg" ContentType="image/jpeg"/>
  <Override PartName="/ppt/media/image11.wmf" ContentType="image/x-wmf"/>
  <Override PartName="/ppt/media/image17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9F5-4DC9-482C-B819-B3C5D9B2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795-25B1-4529-BF5F-C40C1285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682-ED9A-4A4E-A203-AE9AB61F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C44-A36B-437F-AE3C-AC14BC1B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D281-4BC1-405C-A37A-73B14437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B5CF-481C-484E-A921-D917480C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E859-935C-4B3E-B556-25BF6E9C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A3A9-A2E6-4C71-9DB5-B0850ED0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CE99-DB48-408A-B73D-BB1C24D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A22A-E973-436C-A367-81FA778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CEB6-C8A2-4BAF-A55E-7376A6E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7BC-79B5-4F58-A207-3C22EBF4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57E1-77C5-49B1-BA44-6096BC32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C14D-9435-4A27-AA8B-4F479FC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EB60-7F4B-4FA2-9343-9D4FE7C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7CFC-FCB0-45E8-8A0C-C4B67969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765-DC7A-4A3A-999F-223CF5F1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959C-F866-45C0-8BFB-D01AD38B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9C9F-B89A-4E53-A996-9681F4F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53B4-01B3-47E0-883D-7F7C5563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6BB5-0434-46D3-A0CC-865D513F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B8F8-DF06-4E6E-BA30-065C616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320-3DEE-4213-A359-1E2AD51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A033-767D-4703-B954-B599C56A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9B58-88C2-42F5-80E0-39BFB2F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5A33-BA32-4B71-ADA7-3A7856F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C4D6-EA4F-4635-B286-80240DCE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620C-4667-48CE-A41F-A508AA7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633F-5D0C-45AC-891F-85714AD0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ECFC-C246-4CD7-B966-6AEB61C1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281-F123-4F17-9D38-5AEE699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18D-A421-49C0-B1EA-B7514FD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4D0-5153-4BE3-AF52-828859A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509-16D5-4F6B-8CB0-36106CD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E1D-AAE9-47E7-9D6C-867673E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FC1-5B7D-4BE2-89F9-153B923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6B7-088D-422C-84D0-28886E669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09D-E738-4201-88B5-17D34524D7C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CF90-112A-49E5-A1EA-47B1078363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flickr.com/photos/violentz/21185312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530280" y="987480"/>
            <a:ext cx="8327880" cy="1481040"/>
          </a:xfrm>
          <a:prstGeom prst="rect">
            <a:avLst/>
          </a:prstGeom>
          <a:ln w="0">
            <a:noFill/>
          </a:ln>
        </p:spPr>
      </p:pic>
      <p:pic>
        <p:nvPicPr>
          <p:cNvPr id="134" name="Subtitle 2" descr=""/>
          <p:cNvPicPr/>
          <p:nvPr/>
        </p:nvPicPr>
        <p:blipFill>
          <a:blip r:embed="rId2"/>
          <a:stretch/>
        </p:blipFill>
        <p:spPr>
          <a:xfrm>
            <a:off x="469800" y="3200400"/>
            <a:ext cx="830916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0"/>
          <p:cNvGraphicFramePr/>
          <p:nvPr/>
        </p:nvGraphicFramePr>
        <p:xfrm>
          <a:off x="0" y="-190440"/>
          <a:ext cx="9448920" cy="70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90440"/>
                    <a:ext cx="9448920" cy="70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1024"/>
          <p:cNvGraphicFramePr/>
          <p:nvPr/>
        </p:nvGraphicFramePr>
        <p:xfrm>
          <a:off x="23760" y="14400"/>
          <a:ext cx="912024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14400"/>
                    <a:ext cx="912024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1029"/>
          <p:cNvSpPr/>
          <p:nvPr/>
        </p:nvSpPr>
        <p:spPr>
          <a:xfrm>
            <a:off x="3124080" y="152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rive Thru Tim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Rectangle 1030"/>
          <p:cNvSpPr/>
          <p:nvPr/>
        </p:nvSpPr>
        <p:spPr>
          <a:xfrm>
            <a:off x="8381880" y="1752480"/>
            <a:ext cx="762120" cy="396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5 Number Summary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In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2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1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Out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1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5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2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6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he Test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905120"/>
            <a:ext cx="8076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1- 2-Sample T-test testing whether the average drive thru time is equal to the average inside ti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2- Mean difference test, Testing weather the average drive thru time found is equal to the national average for each restaurant visited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 independent 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 Norm pop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50 &gt; 30 (check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50 &gt; 30 (check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One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=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Ha: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&gt;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T=                  = -1.153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P(t &gt; -1.1533 | df = 27.6011) = .87007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1295280" y="4495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724280" y="137160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8119"/>
                </a:solidFill>
                <a:latin typeface="Century Gothic"/>
                <a:ea typeface="Arial"/>
              </a:rPr>
              <a:t>1 </a:t>
            </a: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= Inside ti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8119"/>
                </a:solidFill>
                <a:latin typeface="Century Gothic"/>
                <a:ea typeface="Arial"/>
              </a:rPr>
              <a:t>2 </a:t>
            </a:r>
            <a:r>
              <a:rPr b="0" lang="en-US" sz="3000" spc="-1" strike="noStrike">
                <a:solidFill>
                  <a:srgbClr val="ff8119"/>
                </a:solidFill>
                <a:latin typeface="Century Gothic"/>
                <a:ea typeface="Arial"/>
              </a:rPr>
              <a:t>= Drive Thru ti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1143000" y="2819520"/>
                <a:ext cx="183816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1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fail to reject ho because the p-value of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.87007  is less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 the average times of going through the drive thru of a fast food restaurant is greater then going insid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fidence Interval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± (t*)(s/  n) =( -.295, .62834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are 99% confident that the mean difference of Drive thru times and inside times is between -.295 and .62834 m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2590920" y="2209680"/>
            <a:ext cx="152280" cy="763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2743200" y="198072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rmal Pop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5748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d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119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150 &gt; 30 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Two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2bf"/>
                </a:solidFill>
                <a:latin typeface="Century Gothic"/>
              </a:rPr>
              <a:t>Ho: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2da2bf"/>
                </a:solidFill>
                <a:latin typeface="Century Gothic"/>
                <a:ea typeface="Arial"/>
              </a:rPr>
              <a:t>d 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=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Ha: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 µ</a:t>
            </a:r>
            <a:r>
              <a:rPr b="0" lang="en-US" sz="3000" spc="-1" strike="noStrike" baseline="-25000">
                <a:solidFill>
                  <a:srgbClr val="2da2bf"/>
                </a:solidFill>
                <a:latin typeface="Century Gothic"/>
                <a:ea typeface="Arial"/>
              </a:rPr>
              <a:t>d </a:t>
            </a: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Arial"/>
              </a:rPr>
              <a:t>≠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T=              = 4.0414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( t &gt; 4.0414|df = 4) = .0156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0"/>
              <p:cNvSpPr txBox="1"/>
              <p:nvPr/>
            </p:nvSpPr>
            <p:spPr>
              <a:xfrm>
                <a:off x="1066680" y="3200400"/>
                <a:ext cx="10432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113976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142640"/>
            <a:ext cx="4191120" cy="5181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st Food restaurants have been around since 1921 when the first White Castle open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hamburger invented in 1916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drive-thru restaurant invented in 1948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cember 12, 1948 First McDonalds opene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rger King open in the1950s and Wendy’s came along in 196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reject Ho in favor of Ha because the p-value of .0156 is greater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 the observed drive thru times were not equal to the national drive thru averages</a:t>
            </a:r>
            <a:r>
              <a:rPr b="0" lang="en-US" sz="2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Margin Of Error</a:t>
            </a: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ordering different things or amount in which you 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different time of day (how bus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Number of people on shif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who serves yo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timing not accurate(human erro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Personal Analysi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collection of data we did find somewhat difficult just because of the huge amount of data need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started out by buy all the food ourselves but then reverted to just timing people because of cos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ject was fun but challeng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Personal Thoughts Cont.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one were surprising because we expected the drive thru times to be faste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two were surprising also because they did not fit the national averag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7" descr="http://www.dlife.com/opencms/export/pics/dLife_Images/fast_food.jpg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03884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pplicat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e find this applicable to any person wanting to get food in a hurry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t always is what people try to advertise is always tru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ast restaurant = </a:t>
            </a:r>
            <a:r>
              <a:rPr b="1" lang="en-US" sz="2600" spc="-1" strike="noStrike">
                <a:solidFill>
                  <a:srgbClr val="da1f28"/>
                </a:solidFill>
                <a:latin typeface="Century Gothic"/>
              </a:rPr>
              <a:t>WENDY’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932120" y="2057400"/>
            <a:ext cx="13716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8" descr="Lassie sure loves Wendy's Frosties 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90720"/>
            <a:ext cx="372744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6" descr=""/>
          <p:cNvPicPr/>
          <p:nvPr/>
        </p:nvPicPr>
        <p:blipFill>
          <a:blip r:embed="rId1"/>
          <a:stretch/>
        </p:blipFill>
        <p:spPr>
          <a:xfrm>
            <a:off x="-201600" y="1547640"/>
            <a:ext cx="9723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icked a SRS of 3 types of each restaurant  by using yellowpages.com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each place we gathered 10 times from getting food inside and 10 from going through the drive thru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0" name="Content Placeholder 4" descr="ts.jpg"/>
          <p:cNvPicPr/>
          <p:nvPr/>
        </p:nvPicPr>
        <p:blipFill>
          <a:blip r:embed="rId2"/>
          <a:stretch/>
        </p:blipFill>
        <p:spPr>
          <a:xfrm>
            <a:off x="4297320" y="1944720"/>
            <a:ext cx="47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4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497800" cy="140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0 Easton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80 W Street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6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60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 West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Newtown, PA 18940-43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500 W Moreland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19090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865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90 N Main S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719 N Broad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Lansdale, PA 1944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20 EASTON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 US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0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755 York Rd Ste 204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395 York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Jamison, PA 18929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10 Inverness Cir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Chalfont, PA 1891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39 Doyle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1024"/>
          <p:cNvGraphicFramePr/>
          <p:nvPr/>
        </p:nvGraphicFramePr>
        <p:xfrm>
          <a:off x="609480" y="1676520"/>
          <a:ext cx="80773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77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9"/>
          <p:cNvSpPr/>
          <p:nvPr/>
        </p:nvSpPr>
        <p:spPr>
          <a:xfrm>
            <a:off x="1447920" y="4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ata for Going Ins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5"/>
          <p:cNvGraphicFramePr/>
          <p:nvPr/>
        </p:nvGraphicFramePr>
        <p:xfrm>
          <a:off x="7924680" y="1600200"/>
          <a:ext cx="1076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600200"/>
                    <a:ext cx="1076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Data for Drive Thru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52280" y="1600200"/>
          <a:ext cx="7848720" cy="487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3809880" y="1828800"/>
          <a:ext cx="4953240" cy="4108320"/>
        </p:xfrm>
        <a:graphic>
          <a:graphicData uri="http://schemas.openxmlformats.org/drawingml/2006/table">
            <a:tbl>
              <a:tblPr/>
              <a:tblGrid>
                <a:gridCol w="2065320"/>
                <a:gridCol w="1363680"/>
                <a:gridCol w="15242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me of Restaur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ime in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ur Overall Average time(mi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cDonal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rger 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ndy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F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ick-Fli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Object 0"/>
          <p:cNvGraphicFramePr/>
          <p:nvPr/>
        </p:nvGraphicFramePr>
        <p:xfrm>
          <a:off x="1905120" y="1828800"/>
          <a:ext cx="114300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28800"/>
                    <a:ext cx="1143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"/>
          <p:cNvGraphicFramePr/>
          <p:nvPr/>
        </p:nvGraphicFramePr>
        <p:xfrm>
          <a:off x="609480" y="1828800"/>
          <a:ext cx="1295640" cy="3962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828800"/>
                    <a:ext cx="1295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3276720" y="304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ll Tim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5:10:42Z</dcterms:created>
  <dc:creator> </dc:creator>
  <dc:description/>
  <dc:language>en-US</dc:language>
  <cp:lastModifiedBy> </cp:lastModifiedBy>
  <dcterms:modified xsi:type="dcterms:W3CDTF">2008-06-11T15:42:55Z</dcterms:modified>
  <cp:revision>39</cp:revision>
  <dc:subject/>
  <dc:title>Slide 1</dc:title>
</cp:coreProperties>
</file>